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245F-B32D-4B40-9497-F5CACB334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2B0-1095-4BBA-8759-66AD81CD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EE8-5EAD-4F57-9361-8C9789F7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7039-B679-44B9-B446-F8EF7941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C5F-DB2E-42BA-A26F-9D6B94C2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DC63-D98F-4AE9-A875-D3CB5C7C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5517-BAE8-476B-915A-A0BC7B24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EE7E-3D00-41CC-AA2B-5D381863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3343-A3F5-453A-A62E-6D118B81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8E89-6303-4C16-910B-F4A563F3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E93A-4CC0-40AC-B484-05D01DC0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239E-1D69-48AA-B899-E3242297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337-9618-47C5-8897-0EDBDA90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4788-EE7F-4952-95DA-75E41C0F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6AC4-7184-4E4F-91C0-064A5579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04B4-1463-4ED4-ABAB-042B678F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8785-46FF-4624-9CC5-242AFA31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0A33-48D2-4656-BE66-02D16535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C12-6D25-4F32-B607-84D71BC5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FE5-6D8F-4A71-8C76-4C80EEB4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540-D703-4996-9869-A29DC8B3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871-55BA-4C10-BD26-0BBF054E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D57-686B-4B71-A83D-1254FC8C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600-2DEA-4636-9C66-243B2F25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EAF-37F0-4A82-95CE-2D8CC43D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4D49-D114-41A7-BABA-39E9BB66B1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49FA-ADDD-4A2E-A747-42523A8271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 Multi-Mode Selectable DC-DC Converter for Ultralow Power Circuits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rnie Bowd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oug Sorens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ject Motiv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24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32136" b="19629"/>
          <a:stretch/>
        </p:blipFill>
        <p:spPr>
          <a:xfrm>
            <a:off x="2133720" y="2438280"/>
            <a:ext cx="4800600" cy="3587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5760000"/>
            <a:ext cx="80773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 Unicode MS"/>
              </a:rPr>
              <a:t>Quantization effect.  Dashed line represents four voltage sources with dithering.  Lowest energy line is a voltage supply with infinite output values [1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V. Gutnik and A. Chandrakasan, “Embedded Power Supply for Low-Power DSP</a:t>
            </a:r>
            <a:r>
              <a:rPr b="0" i="1" lang="en-US" sz="1000" spc="-1" strike="noStrike">
                <a:solidFill>
                  <a:srgbClr val="003366"/>
                </a:solidFill>
                <a:latin typeface="Arial"/>
              </a:rPr>
              <a:t>”, IEEE Transactions on Very Large Scale Integration (VLSI) Systems,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December 1997, Vol. 5, No. 4, pp 425-436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witched Capacitor Concep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68600" y="2568600"/>
          <a:ext cx="42321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8600" y="2568600"/>
                    <a:ext cx="42321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witched Capacitor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819520" y="2438280"/>
          <a:ext cx="294300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438280"/>
                    <a:ext cx="294300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near Regulator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5053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lection Log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174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ltage Cur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5023" t="15155" r="7294" b="6753"/>
          <a:stretch/>
        </p:blipFill>
        <p:spPr>
          <a:xfrm>
            <a:off x="1752480" y="2666880"/>
            <a:ext cx="5334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ffects of Load Current on Output Voltage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5554" t="15817" r="8152" b="6048"/>
          <a:stretch/>
        </p:blipFill>
        <p:spPr>
          <a:xfrm>
            <a:off x="2133720" y="2438280"/>
            <a:ext cx="49528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witched Capacitor Efficiencies in 65nm PT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7455" t="18529" r="8679" b="6248"/>
          <a:stretch/>
        </p:blipFill>
        <p:spPr>
          <a:xfrm>
            <a:off x="4876920" y="4191120"/>
            <a:ext cx="4114800" cy="234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5101" t="18601" r="7601" b="6735"/>
          <a:stretch/>
        </p:blipFill>
        <p:spPr>
          <a:xfrm>
            <a:off x="914400" y="2514600"/>
            <a:ext cx="39625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3:56:33Z</dcterms:created>
  <dc:creator>Ernest Bowden</dc:creator>
  <dc:description/>
  <dc:language>en-US</dc:language>
  <cp:lastModifiedBy>Ernest Bowden</cp:lastModifiedBy>
  <dcterms:modified xsi:type="dcterms:W3CDTF">2007-12-04T18:31:53Z</dcterms:modified>
  <cp:revision>8</cp:revision>
  <dc:subject/>
  <dc:title>A Multi-Mode Selectable DC-DC Converter for Ultralow Power Circuits </dc:title>
</cp:coreProperties>
</file>